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7DA8-11F0-4DF8-ABDB-E703BA213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91EE-2E39-404F-AB7A-6D4AFC6B0BF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A990-C13C-42DE-B991-F01C85CE7FA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1D96-5F0C-4938-BF94-6A0FD80E048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06DC-8431-4655-A351-D0B5596ACED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9006-0BA3-4976-9F84-8E2CE1F814C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693D-0B39-4442-A644-B4ECCA070CC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C981-E484-4D9D-8931-6EC95C4F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6D17-5BFC-456D-884F-84A5B790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8825-D4E0-47EF-AC38-1E4FFB29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BCC2-102C-4E8D-B412-6F58F6CC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73F1-74BC-4A7B-A590-7F422CBB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D4B0-7C2F-43E3-BDC1-FE180C95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8427-6C8D-476E-8898-A9711741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7B51-FC89-489F-8D21-CDF9735A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5632-DA0C-47ED-881B-A8590A27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2A32-B853-4255-87C2-32E5A954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0DBF-2BCF-4371-9EC5-8826E793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D2D7-5C78-49AC-ADEC-B94B758D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C3DC-DBE9-4885-A71F-B5E0F307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A770-9288-49A5-B1BE-5CE9DE1D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C6BF-631C-4B5D-B367-C4017F5C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AA0A-880D-4C06-B844-0EE53F4C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F51C-6F55-4843-B48A-9DBA08B5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7F5F-5122-46AA-AE4D-DBEFFFAD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5239-6FE6-4E41-9FDF-460867E2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D085-0915-4EFA-8300-E20A22D8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BF0F-A669-4B15-97CB-628B4C75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D3E5-1B65-4797-A0BE-CCA02538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2228-E52E-49BF-AB26-D7251535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87AC-CEF4-4CB9-996A-FECE0212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7059-499D-4477-BACA-7F4B062A4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A519-3137-4735-BFF3-D613B564BAA9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en.wikipedia.org/wiki/File:Abraham_maslow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umanistic Personality Theo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ople are a “genetic blueprint, to which substance is added as life progresses”     ~Carl Rog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umanistic Theo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Emphasizes: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ositive motivation toward higher levels of function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-given reasonable life conditions people will develop in desirable direc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otential for growth and chan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day rather than the pa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~There is more to human existence than dealing with hidden conflicts (Anti-Freud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arl Rog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86200" y="16002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sonality develops in service to positive goa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veryone has innate capacities, capabilities, and potentia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*Goal of life: become the best version of whatever each of us is capable of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Picture 7" descr="rogers"/>
          <p:cNvPicPr/>
          <p:nvPr/>
        </p:nvPicPr>
        <p:blipFill>
          <a:blip r:embed="rId3"/>
          <a:stretch/>
        </p:blipFill>
        <p:spPr>
          <a:xfrm>
            <a:off x="838080" y="2666880"/>
            <a:ext cx="2667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ogers’ Ide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ctualizing Tendency: biological push toward fulfill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lf-Actualizing Tendency: drive of humans to fulfill their self-concepts or images they have formed for themselv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: If you think you are intelligent you will strive to live up to that im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et’s learn more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What makes a person “fully functioning”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Fully functioning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—an individual whose self-concept closely resembles his or her inborn capacities or potential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Unconditional positive regar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—full acceptance and love of another person regardless of that person’s behavior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Conditional Positive Regar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—acceptance and love that are extended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only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when a person behaves in certain ways and fulfills certain condition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do you think?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are some pros and cons to Humanistic Personality Theories? (difference between unconditional positive regard and conditional positive regard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Tahoma"/>
              </a:rPr>
              <a:t>Abraham Maslow—</a:t>
            </a:r>
            <a:br>
              <a:rPr sz="4400"/>
            </a:br>
            <a:r>
              <a:rPr b="0" lang="en-US" sz="4400" spc="-1" strike="noStrike" u="sng">
                <a:solidFill>
                  <a:srgbClr val="660066"/>
                </a:solidFill>
                <a:uFillTx/>
                <a:latin typeface="Tahoma"/>
              </a:rPr>
              <a:t>                Hierarchy of Needs 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9" name="Picture 4" descr="http://marvinhimel.com/blog/wp-content/uploads/2009/10/Constitutional-Rights-And-Maslows-Hierarchy-Of-Needs.jpg"/>
          <p:cNvPicPr/>
          <p:nvPr/>
        </p:nvPicPr>
        <p:blipFill>
          <a:blip r:embed="rId1"/>
          <a:stretch/>
        </p:blipFill>
        <p:spPr>
          <a:xfrm>
            <a:off x="228600" y="2133720"/>
            <a:ext cx="5334120" cy="4494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http://upload.wikimedia.org/wikipedia/commons/thumb/3/3f/Abraham_maslow.jpg/225px-Abraham_maslow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1320" y="2666880"/>
            <a:ext cx="27525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12:54:03Z</dcterms:created>
  <dc:creator>amiller</dc:creator>
  <dc:description/>
  <dc:language>en-US</dc:language>
  <cp:lastModifiedBy>John Hampton</cp:lastModifiedBy>
  <dcterms:modified xsi:type="dcterms:W3CDTF">2011-11-10T12:02:06Z</dcterms:modified>
  <cp:revision>17</cp:revision>
  <dc:subject/>
  <dc:title>Humanistic Personality Theory</dc:title>
</cp:coreProperties>
</file>